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6BB7-A61B-4BDD-B718-D4AC9C7E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5706-5387-4985-8C80-C8ACF471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82D3-D717-4D36-BE85-1DE8120D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CE6-FA19-42D5-B937-58BBF3F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72DA-3050-406F-8847-D51F9ABC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91B0-6B82-4C9E-8107-CC9142DC9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C9A5-9859-43E4-BE8D-B2CC52D3B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8C08-9A71-49A3-A4DE-001A4D4DF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DBD4-73EF-4D04-9714-2A3AB4B9C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78D-C389-42F5-B2E9-1630486B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BB7C-6909-4591-A6DE-79EDDEF1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6F2-8EE1-45A5-B625-4E13B7AC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341E2-417A-46B1-AC23-F31E2D0CF6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000" y="404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00"/>
                </a:solidFill>
                <a:latin typeface="Times New Roman"/>
              </a:rPr>
              <a:t>La “crescita” del polmone dopo la nascita (I).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rante 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svilupp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l diametro della trachea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menta di tre volt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e dimension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g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veo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quadruplican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t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l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or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umero aumenta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asi dieci volt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la massa del corpo cresce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enti vol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po la nascita, nell’arco di 2-8 anni, 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numero degli alveoli cresce da 20 milioni a 200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600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ilion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5257800" y="2057400"/>
          <a:ext cx="365760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057400"/>
                    <a:ext cx="36576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Gli alveoli polmonar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superficie degli alveoli è ricoperta da un epitelio, formato dai pneumociti di tipo I e di tipo II, da una sottile lamina basale e dagli end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iociti dei capillar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lmonar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rivestimento epiteliale 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è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ppresentato prevalentemente dal citoplasma appiattito di pochi pneumociti di tipo I, conness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a giunzioni particolarmente strette per prevenire il passaggio di liquidi dall’interstizio nel lume alveol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Pneumociti di I° e II° tip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1800" y="2050920"/>
            <a:ext cx="7485120" cy="40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poste tra i pneumociti di tipo I si osservan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tri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lementi cellular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he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g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nel lume alveolare (pneumociti di tipo II)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sti sono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ratterizzati dalla presenza di numerosi granuli citoplasmatici che prendono il nome di "corpi lamellari“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i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urfattante alveolare, un particolare materiale fosfolipidico con funzioni tensioattiv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neumociti di tipo II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n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oltr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tati di capacità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parativ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poichè, in caso di lesioni all’epitelio alveolare, possono differenziarsi in pneumociti di  tip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 circolo polmonare e quello bronchiale.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funzioni del sistema arterioso polmonare sono: a) consentire gli scambi gassosi e b) nutrire il parenchima polmonar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funzione principale del sistema arterioso bronchiale è invece la nutrizione dell'albero bronchiale sino al livello dei bronchioli terminali, mentre l'irrorazione delle diramazioni bronchiali di più piccolo calibro è di pertinenza del circolo polmonare.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69640" y="151920"/>
            <a:ext cx="818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l circolo polmonar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rteria polmonare nasce dal ventricolo destro e si ramifica in maniera dicotomica asimmetrica, seguendo il decorso delle vie aeree, sino a generare la fitta rete anastomotica capillare alveolare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vasi sanguigni posti prossimalmente (le arterie elastiche) offrono una ridotta resistenza al flusso ematico, consentendo la distribuzione del sangue a bassa pressione e quindi a bassi costi energetici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1553" t="6667" r="0" b="8888"/>
          <a:stretch/>
        </p:blipFill>
        <p:spPr>
          <a:xfrm>
            <a:off x="5105520" y="2178000"/>
            <a:ext cx="3733560" cy="36133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l sistema linfatic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polmoni sono provvisti di una complessa rete di vasi linfatici che si articola in due plessi distinti ma collegati ampiamente: a) 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e linfatica superficial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e b) la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e linfatica profond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rete superficiale si estende sotto la pleura viscerale in ampie maglie che corrispondono al perimetro dei lobuli polmonari. La rete profonda, invece, si ramifica nel tessuto connettivo peribronchiale e perivasal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tre ai vasi, 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stono poi altri due tipi di strutture linfatiche: gli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ggregati linfoid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“bronchus-associated lymphoid tissue” o BALT)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d 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nfonod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Gli aggregati linfoidi ed i linfonod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li aggregati linfoid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o localizzati alla biforcazione delle vie aeree di medio e piccolo calibro, dove avviene l'impatto con gli antigeni inalati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funzionano come riserva locale di linfociti che, in caso di necessità, può essere rapidamente reclutata nella sede di lesione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linfonod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o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vec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utture linfatiche più complesse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gli aggregati linfoidi e son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otat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capsul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principal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ene linfonoda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sono rappresentate da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l gruppo tracheobronchiale inferiore, posto al di sotto della caren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 gruppi tracheobronchiali superiori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i gruppi paratracheali, disposti lungo la trache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</a:rPr>
              <a:t>I muscoli respiratori 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spiratori ed espiratori.</a:t>
            </a: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i="1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scoli inspirator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omprendon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l diaframma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 muscoli intercostali esterni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la porzione intercartilaginea degli intercostali interni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)  i muscoli sternocleidomastoidei e scaleni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muscoli espiratori  comprendon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i muscoli intercostali interni interossei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i muscoli della parete addominale (retto, obliqui e trasverso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0" y="2362320"/>
          <a:ext cx="4343400" cy="365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362320"/>
                    <a:ext cx="4343400" cy="36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00"/>
                </a:solidFill>
                <a:latin typeface="Times New Roman"/>
              </a:rPr>
              <a:t>La “crescita” del polmone dopo la nascita (II).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381636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urante l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moltiplicazione alveolare, entro l'acino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iono nuovi vasi sanguigni, così che il rapport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ra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lveol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ed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teri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imane costa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'area della superficie polmon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mantiene una stretta relazione con la massa corp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ea: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rc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q per kg di peso corporeo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2140200"/>
            <a:ext cx="777240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it-IT" sz="5400" spc="-1" strike="noStrike">
                <a:solidFill>
                  <a:srgbClr val="ffffff"/>
                </a:solidFill>
                <a:latin typeface="Times New Roman"/>
              </a:rPr>
              <a:t>L’anatomia delle vie aeree.</a:t>
            </a:r>
            <a:endParaRPr b="0" lang="en-US" sz="5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Il controllo della ventilazion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752480"/>
            <a:ext cx="839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ventilazione è sotto il controllo di centri nervosi detti “centri respiratori”, localizzati nel sistema nervoso centrale, che regolano la profondità e la ritmicità del respiro in condizioni normali di ripo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sistono poi strutture recettoriali periferiche e centrali, deputate ad inviare segnali di natura fisica, chimica, sensoriale al sistema nervoso centrale, che consentono di adattare i diversi parametri del ciclo respiratorio alle diverse situazioni fisiologiche (sforzo fisico) o patologiche (ipertermia, acidosi metabolica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strutture delle vie aeree superior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2204640"/>
            <a:ext cx="4175280" cy="37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ric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ane nasa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rbinat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ni Paranasali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ube di Eustacch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rin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vo ora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3800" indent="-523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inge</a:t>
            </a:r>
            <a:r>
              <a:rPr b="0" lang="it-IT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4902120" y="2151000"/>
            <a:ext cx="3708360" cy="4097160"/>
            <a:chOff x="4902120" y="2151000"/>
            <a:chExt cx="3708360" cy="4097160"/>
          </a:xfrm>
        </p:grpSpPr>
        <p:graphicFrame>
          <p:nvGraphicFramePr>
            <p:cNvPr id="59" name=""/>
            <p:cNvGraphicFramePr/>
            <p:nvPr/>
          </p:nvGraphicFramePr>
          <p:xfrm>
            <a:off x="4902120" y="2151000"/>
            <a:ext cx="3708360" cy="40971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02120" y="2151000"/>
                      <a:ext cx="3708360" cy="409716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1" name=""/>
            <p:cNvSpPr/>
            <p:nvPr/>
          </p:nvSpPr>
          <p:spPr>
            <a:xfrm>
              <a:off x="4976640" y="42638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1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55840" y="23158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4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623000" y="4822560"/>
              <a:ext cx="4474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5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484600" y="53560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6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89520" y="44416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7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084800" y="520380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8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73640" y="381456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2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5943240" y="4513320"/>
              <a:ext cx="609840" cy="83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6629040" y="522432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954320" y="343368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Times New Roman"/>
                </a:rPr>
                <a:t>(3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410080" y="3657600"/>
              <a:ext cx="45720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410080" y="3657600"/>
              <a:ext cx="6858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</a:t>
            </a: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 strutture delle vie aeree inferiori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Trache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Bronch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Bronchiol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Dotti alveolari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Times New Roman"/>
              </a:rPr>
              <a:t>Alveol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844880" y="2057400"/>
          <a:ext cx="38116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4880" y="2057400"/>
                    <a:ext cx="3811680" cy="411480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7550280" y="2362320"/>
            <a:ext cx="447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7010280" y="259092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4280" y="2438280"/>
            <a:ext cx="447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2743200"/>
            <a:ext cx="1524240" cy="12193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159760" y="2895480"/>
            <a:ext cx="447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7619760" y="3276720"/>
            <a:ext cx="53316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83040" y="3048120"/>
            <a:ext cx="44748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02560" y="4424400"/>
            <a:ext cx="44748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Times New Roman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334120" y="3429000"/>
            <a:ext cx="685800" cy="30492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7924680" y="3733560"/>
            <a:ext cx="0" cy="6858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Le vie aere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2280" y="1371240"/>
            <a:ext cx="51818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vie aeree sono rivestite da un epitelio cilindrico pseudostratificato-cigliato, che ha la funzione di far progredire il muco dalla periferia delle vie aeree verso la glottide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tre a svolgere un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ol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barriera </a:t>
            </a: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tettiva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 cellule epiteliali cigliate possono rilasciare mediatori capaci di modulare attività biologiche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reazioni infiammatori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 processi riparativi e cicatriziali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contrazione dei muscoli lisc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al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5796000" y="1676520"/>
          <a:ext cx="2890800" cy="435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6000" y="1676520"/>
                    <a:ext cx="2890800" cy="4351320"/>
                  </a:xfrm>
                  <a:prstGeom prst="rect">
                    <a:avLst/>
                  </a:prstGeom>
                  <a:ln w="2844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i respiratori, sacchi e dotti alveolari.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4572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nchiolo respiratori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à luogo ad un numero variabile d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ti alveolari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ermina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i a fondo cieco ne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cchi polmonar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lla parete dei dotti alveolari si aprono gli alveoli ed il complesso delle strutture tributarie del bronchiolo terminale prende il nome d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ino polmonare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334120" y="1905120"/>
            <a:ext cx="3200400" cy="4419360"/>
            <a:chOff x="5334120" y="1905120"/>
            <a:chExt cx="3200400" cy="4419360"/>
          </a:xfrm>
        </p:grpSpPr>
        <p:sp>
          <p:nvSpPr>
            <p:cNvPr id="97" name=""/>
            <p:cNvSpPr/>
            <p:nvPr/>
          </p:nvSpPr>
          <p:spPr>
            <a:xfrm>
              <a:off x="5334120" y="1905120"/>
              <a:ext cx="3200400" cy="44193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98" name=""/>
            <p:cNvGraphicFramePr/>
            <p:nvPr/>
          </p:nvGraphicFramePr>
          <p:xfrm>
            <a:off x="5713560" y="2581200"/>
            <a:ext cx="2516040" cy="2895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3560" y="2581200"/>
                      <a:ext cx="2516040" cy="2895120"/>
                    </a:xfrm>
                    <a:prstGeom prst="rect">
                      <a:avLst/>
                    </a:prstGeom>
                    <a:ln w="9360">
                      <a:solidFill>
                        <a:srgbClr val="00ff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 flipH="1" flipV="1">
              <a:off x="7465680" y="4943160"/>
              <a:ext cx="228600" cy="68544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168320" y="5581440"/>
              <a:ext cx="971640" cy="58068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ff00"/>
                  </a:solidFill>
                  <a:latin typeface="Times New Roman"/>
                </a:rPr>
                <a:t>Dotto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ff00"/>
                  </a:solidFill>
                  <a:latin typeface="Times New Roman"/>
                </a:rPr>
                <a:t>alveol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4080" y="2361960"/>
              <a:ext cx="916200" cy="599760"/>
            </a:xfrm>
            <a:prstGeom prst="line">
              <a:avLst/>
            </a:prstGeom>
            <a:ln w="936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4520" y="2168280"/>
              <a:ext cx="835920" cy="33732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00ff00"/>
                  </a:solidFill>
                  <a:latin typeface="Times New Roman"/>
                </a:rPr>
                <a:t>Alveol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ff"/>
            </a:gs>
            <a:gs pos="100000">
              <a:srgbClr val="000075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00"/>
                </a:solidFill>
                <a:latin typeface="Times New Roman"/>
              </a:rPr>
              <a:t>Ventilazione collaterale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alora il sistema bronchiolare fosse ostruito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le 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utture deputate ad assicurare la ventilazione collaterale, sono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i di Koh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comunicazioni tra alveoli adiacenti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)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ali di Lambert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rutture di collegamento tra bronchioli e alveoli relativi ad acini contigui)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) </a:t>
            </a:r>
            <a:r>
              <a:rPr b="0" lang="it-IT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ali interbronchiali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 maggior calibr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765360" cy="85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24:34Z</dcterms:created>
  <dc:creator/>
  <dc:description/>
  <dc:language>en-US</dc:language>
  <cp:lastModifiedBy>luca</cp:lastModifiedBy>
  <dcterms:modified xsi:type="dcterms:W3CDTF">2004-03-09T09:32:05Z</dcterms:modified>
  <cp:revision>95</cp:revision>
  <dc:subject/>
  <dc:title/>
</cp:coreProperties>
</file>